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0547-699C-489D-ABB1-DB32C151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0AA-63D1-43E7-8C71-25135F09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5CAE-BDF5-4BC4-B8FC-90F036E1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180-6930-4A0A-A2C2-0092B4D9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5CFD-09E8-4012-B28D-B7E6F974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EC96-8FE9-4D1E-8BBE-835A1BCB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3A11-31D5-44B6-A73B-86B16480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59F1-B9E0-4085-9EE6-3C5303C3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55D6-777E-49D3-873B-A58B557E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9736-4FA2-4C89-BD39-5A3597D8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524E-B77A-45E7-86A0-1462F56E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0EF1-65AA-4629-8BF1-E4B99D7F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71A9-2A1D-44D8-B381-E50DEF2F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9CD2-7F57-4FAC-A26E-83B4E8AE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8107-02BC-4748-BEC9-3C1C2255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2FF3-5941-442B-B7F9-FA9352AB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96CD-DDD4-4934-A585-7C78D938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3A45D-7157-494E-B728-13395EA1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C7524-400D-43C1-9F6F-A1167367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0C137-DB3B-4DE7-AA81-6658CC49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A9330-DBF1-4A5C-8E65-A3D4FBE1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7F187-8576-404C-94E3-86CA7574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220-C84C-4A3A-95A9-BB788EA1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32295-7778-4AB3-A8FB-0EE5D7AD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1EAFF-3D21-463A-B3CC-9494657B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8C669-58E5-4726-BE80-8CB53538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616E0-23B9-4C9A-87F6-0709CFA8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8516D-9CD4-4BFF-B1A6-CCC88A25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96BF8-2F4B-4AEE-AEB3-744D363C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571A8-2978-47FF-A643-65E256A8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DE8BC-2A50-4533-A336-926B5CF4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9D7E5-723C-4C26-8B0F-0EADCF57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F1E3E-D73F-40BB-881A-B74C188E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73D4-333D-434C-9593-B22C3D84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DB1AB-022A-48FE-99A2-D7DA4B20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E9F65-A187-4725-932A-8600C7B4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8D6B8-465B-43F8-89BA-BF360A64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3A251-D992-4C80-B547-42B3D576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09B5C-E56F-4326-B420-F69946B8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E4735-111F-4058-B5BE-38E8C983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4650A-5907-4FFF-9C8C-CE767CFA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C7502-9A5A-46D8-9C14-58DFA996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E1E62-9C56-4529-862C-84D463D7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F60F-7E63-4AC0-A659-D97C6F6F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2B6-1E49-4BE1-BD63-F0AFC578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AD7F-CCEB-4644-8FC5-1389BFE7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C151-B61E-45A9-A186-27933938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D691-4F38-4A68-8D2A-3963CA5F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15a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3BCF-E5C0-45F8-99E8-7C520A0735BD}" type="slidenum">
              <a:rPr b="0" lang="en-US" sz="1200" spc="-1" strike="noStrike">
                <a:solidFill>
                  <a:srgbClr val="715a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d3b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AF58-4C24-4EC0-8700-E2902094A4DF}" type="slidenum">
              <a:rPr b="0" lang="en-US" sz="1200" spc="-1" strike="noStrike">
                <a:solidFill>
                  <a:srgbClr val="e0d3b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d3b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9FE9-5FE6-446D-AC35-5808E16B4F9C}" type="slidenum">
              <a:rPr b="0" lang="en-US" sz="1200" spc="-1" strike="noStrike">
                <a:solidFill>
                  <a:srgbClr val="e0d3b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15a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857D-CA28-4642-9D70-3E4284A06B82}" type="slidenum">
              <a:rPr b="0" lang="en-US" sz="1200" spc="-1" strike="noStrike">
                <a:solidFill>
                  <a:srgbClr val="715a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spañol 2 Capítulo 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- ¿Cuál es tu dirección de email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2- ¿Cuál es tu número de teléfono o celular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3- ¿Tienes un fax? ¿Cuándo lo usas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- ¿Cuál es tu motor de búsqueda favorito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5- ¿Te gusta surfear la internet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6- ¿Cuántas horas usas la computadora para la internet?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7 ¿Cuántas minutos usas el celular pa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hablar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cada mes?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8- ¿Cuántos mensajes/text tienes en un mes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9- ¿Cuántas horas estás en el cuarto de charla/facebook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0- En tu opinion, ¿crees que muchas personas usan el celular o la computadora más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20:13:29Z</dcterms:created>
  <dc:creator> </dc:creator>
  <dc:description/>
  <dc:language>en-US</dc:language>
  <cp:lastModifiedBy> </cp:lastModifiedBy>
  <dcterms:modified xsi:type="dcterms:W3CDTF">2010-09-20T18:45:24Z</dcterms:modified>
  <cp:revision>117</cp:revision>
  <dc:subject/>
  <dc:title>Fotos y transparencias</dc:title>
</cp:coreProperties>
</file>